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DDC-B0BE-45F3-81F3-C792A2A2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458-022D-42F2-B6C2-AFD5EFB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186-58A1-4DEE-99A0-FF17AF2C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D44-9F3D-4F8A-B996-BA57FC56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ED22-4054-4876-804C-52EC0DB46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BEF16-FA08-4844-B58D-89DD425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89F0-FF23-4D22-8FAF-DAD48CB4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C8A1C-8665-42F6-A2D5-3ECF9B0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AA2F-4DCE-4769-86AE-3155293F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51C75-06A4-4687-BE24-A2C01343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84FBE-A204-4987-BF54-BE43A8CE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E7B-8E0A-45F3-83CA-BCD74631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028AD-02D1-4FE7-95C7-7AF055E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37B7-15AE-4241-B462-4726362B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11346-AB28-4BE9-A48E-74142A53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929F2-B153-42C7-89BF-08568BA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9C276-1F88-4F40-A397-C0668D3BF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659-341D-457E-8320-1F11F30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2A4-90EB-4E5C-BCBB-C299BD05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D43-6380-4051-8088-465B60A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3DD-B0EA-4484-BCDB-88F57C89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C02-2EE7-448D-AE74-FF8EA07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C00-B8E3-46C9-9685-CA59467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EE9-CFC7-4163-A88D-146EFC7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54840" y="268200"/>
            <a:ext cx="151632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8080" y="1219320"/>
            <a:ext cx="388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3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C83-D32D-480F-924A-56D5042F316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DAC-C789-4540-AFC4-A145DBF0F7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297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2F6F-673A-46AD-8827-CA6097D8D811}" type="datetime">
              <a:rPr b="0" lang="en-US" sz="1400" spc="-1" strike="noStrike">
                <a:solidFill>
                  <a:srgbClr val="010000"/>
                </a:solidFill>
                <a:latin typeface="Verdan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422-2C79-4790-B7C3-0854E004CC0B}" type="slidenum">
              <a:rPr b="0" lang="en-US" sz="1400" spc="-1" strike="noStrike">
                <a:solidFill>
                  <a:srgbClr val="01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350120" y="3187800"/>
            <a:ext cx="255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CD 202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6920" y="407880"/>
            <a:ext cx="8643960" cy="5486760"/>
            <a:chOff x="826920" y="407880"/>
            <a:chExt cx="8643960" cy="54867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3743" t="11567" r="2459" b="21248"/>
            <a:stretch/>
          </p:blipFill>
          <p:spPr>
            <a:xfrm>
              <a:off x="1158840" y="1303200"/>
              <a:ext cx="8312040" cy="44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63640" y="5510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02040" y="557208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9720" y="555948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02680" y="5619600"/>
              <a:ext cx="157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6920" y="3379680"/>
              <a:ext cx="818676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7920" y="346392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81160" y="29685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3840" y="312264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VLT Soft Starter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1320" y="407880"/>
              <a:ext cx="703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Verdana"/>
                </a:rPr>
                <a:t>MCD 200 high resolution phot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D14-DC6A-4ECC-BDC6-E2D4F5CCF59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65117-7EFD-4412-8744-601DC18E6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8480" y="1163520"/>
            <a:ext cx="9377640" cy="4569480"/>
            <a:chOff x="528480" y="1163520"/>
            <a:chExt cx="9377640" cy="45694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3876" t="50588" r="4655" b="15475"/>
            <a:stretch/>
          </p:blipFill>
          <p:spPr>
            <a:xfrm>
              <a:off x="984240" y="1163520"/>
              <a:ext cx="892188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4769" t="58119" r="71667" b="13540"/>
            <a:stretch/>
          </p:blipFill>
          <p:spPr>
            <a:xfrm>
              <a:off x="5099040" y="3433680"/>
              <a:ext cx="229860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rcRect l="4913" t="24782" r="71664" b="49220"/>
            <a:stretch/>
          </p:blipFill>
          <p:spPr>
            <a:xfrm>
              <a:off x="760320" y="3532320"/>
              <a:ext cx="2284560" cy="19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14840" y="5457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8480" y="3171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4160" y="320184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0160" y="3251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0240" y="5349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36400" y="392040"/>
            <a:ext cx="703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MCD 200 high resolution pho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40B-92B7-4E1C-A10B-734F88B12DB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70114-5EFE-4FB7-BBED-B153DFBBCD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9:05:31Z</dcterms:created>
  <dc:creator>F04047</dc:creator>
  <dc:description/>
  <dc:language>en-US</dc:language>
  <cp:lastModifiedBy>f06247</cp:lastModifiedBy>
  <dcterms:modified xsi:type="dcterms:W3CDTF">2003-10-09T08:18:55Z</dcterms:modified>
  <cp:revision>12</cp:revision>
  <dc:subject>Danfoss Presentat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duct">
    <vt:lpwstr/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Korsbak Lars</vt:lpwstr>
  </property>
  <property fmtid="{D5CDD505-2E9C-101B-9397-08002B2CF9AE}" pid="7" name="display_urn:schemas-microsoft-com:office:office#Editor">
    <vt:lpwstr>Korsbak Lars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